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CC868-338B-4F4E-84D2-A5E7543A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AB2D-BC1B-4556-89C3-175B8F55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9EEF-0148-481A-AF06-EE8A0F3F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ABDB-52AB-4418-9902-C3B2569A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5A036-3A18-46CB-9795-5EA13AE3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2C003-D281-4A3B-A201-26DE2475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87939-8EEC-4C4D-8827-FEB7D6E2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395F8-07D8-4741-8A8B-B853872B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B52FB-2CB5-4356-99C4-305D4CF2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92161-ABF8-4C61-8F0E-B76D66E5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485DC-B4D0-43B8-BE8E-CD3D5F27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A983-83F7-43F5-85AC-3A5880D0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855D4-AE82-4B62-AF0F-028CE644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457C8-922A-403A-8A66-56AE3889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A1C63-D37F-4844-87B8-93539ED0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EF8F8-189D-4A56-9E3B-C65C471D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3326D-5D65-436A-B66C-7CCBD0ED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74C3-5CC2-444D-A7B3-A7804DFF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EBB80-79C8-4BC9-9470-9CED6F8B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E751-6E20-4A2A-8FF7-2244BCB7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B0F36-EDA8-4231-8C3D-E0783D6B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AB8E9-4A6A-49A0-8101-F86137B3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A88C1-1E88-404A-BEB8-97DC198A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15CE-175E-4918-9306-44E60F45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C050-7550-4046-A460-C51155F2D05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1403-7D83-4926-8721-1752613DF86B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399360" cy="15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D76D-A93E-42B0-B989-4CA785163F0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153A-A54F-4883-BDAB-CBE06F990FBB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399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PT Bold Heading"/>
              </a:rPr>
              <a:t>الإجراءات المستخدمة في إدارة شئون الموظفين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23950-BFEB-470C-8586-55EAC35128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7937E10C-F3C0-4E87-B78F-2E5E544FCF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بلاغ عن إصابة عمل أو وفا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6095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عبئة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المعد لذل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كان وقوع الإصابة بدق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وقع سكن ا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المسمى الوظيفي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تاريخ الإصابة والإبلاغ عنها لمؤسسة التأمين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قل المصاب إلى جهة العلاج المخصصة مع أصل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عطاء وصف كامل ل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جراء تحقيق إداري خاص بالشركة عن ا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فاق رخصة القيادة في حال الحوادث المروري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سم توضيحي (كروكي) عن موقع الحاد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شمسية ل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عن تقرير شرطة المرو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الملف إلى التأمينات مع الاحتفاظ بنسخة في قسم شئون الموظفي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بليغ السفارة في حال الوفا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عنوان ورثة المتوفى إلى مكتب التأمينات لإرسال التعويض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CA987-D4C6-4E32-B265-6067E0A7C3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A95774-A453-4A4E-989F-0DF4C519D9A9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حقيق في المخالفات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بلاغ خطياً عن المخالفة فور وقوع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تحقيق مع الموظ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حقيق وإعداد تقرير بذل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رفع نتيجة التحقيق والتوصيات للمدير الع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عتماد المدير العام للعقوبة أو رفضها أو تعدي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بلاغ الموظف بمضمون العقوبة وله حق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أسابيع من تاريخ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جب على الإدارة الرد على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اً من استلام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جيل العقوبة في ملف الموظف وتنفيذها خاصة العقوبات الما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تدرج العقوبات حسب شدتها وأهميتها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نبيه – الإنذار – التوبيخ – الفصل- الط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1277-58F9-4AF5-85B6-9AAFF51A4C0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5B02E7-583D-4943-90AB-C981E5FA19AB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 الإجراءات الخاصة       بالتأمينات الاجتماعي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جيل الموظف في التأمينات الاجتماعية فور توقيع العق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يجاد سجلات خاصة بالتأمينات الاجتماعية لكل العامل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حتساب قيمة اشتراك التأمينات الاجتماعية عن كل موظف وحسمها من راتبه عن طريق الإدارة المال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بلاغ التأمينات الاجتماعية بأية تعديلات على بيانات الموظف سواء تعديل أو ترك للخدمة أو خلاف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009B-0541-48B5-9C92-84EFADD1A39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88D9EC-37C9-4143-88A3-94D06171A2A1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الإجراءات الخاصة بقياس الأداء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095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كون نماذج تقييم الأداء لدى إدارة الموارد البش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ديد موعد لتقييم الأداء بالاتفاق مع الإدارة العامة والإدارات الأخ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نماذج إلى الإدارات المختلف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رف الإدارة على عملية التقييم وتتأكد من سلامة الإجراءات المتبع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ليل نتائج التقييم وإبلاغ كل إدارة بالنتائج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ضع المقترحات لكل موظف للتدريب أو الترقية أو العلاوات أو غير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نتائج الاقتراحات أولاً بأو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تح سجل لأداء كل موظف لمراقبة تطور الأد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97496-1091-4608-A4CE-C2FE2599F95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CA84DC-0DBC-46FD-BD9C-AC19315AD8E8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صفية الاستحقاقات عند انتهاء العقد 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صر العمال الذين ستنتهي عقوده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متابعة استصدار قرارات انتهاء العق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عمال المعنيين بانتهاء عقودهم للقيام بإجراءات إخلاء الط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ساب استحقاقات العمال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إدارة المالية بالاستحقاقات لإنهاء إجراءات الص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سفر من تذاكر وحجوز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حصول على تأشيرة الخروج النهائي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استلام وتسليم الجواز والإقامة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ثبات بيانات إنهاء العقد في السجل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جهات الخارجية بانتهاء العقد (التأمينات؛ المستوصفات؛...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A9B7-7684-4166-9CFE-39791B02E4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0E0252-8AB9-4475-89B8-45C5C9CEB136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إعداد مسير الرواتب والأجور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عداد المسير قبل أسبوع على الأقل من نهاية الشهر؛ من واقع قوائم العاملين وأرقامهم الوظي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دخال العمليات التي تمت في الشهر ولها أثر مالي مثل الحسومات بأنواعها؛ العلاوات والمكافآت؛ وتعويض العمل الإضاف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مسير للإدارة المالية بعد توقيعه أصو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وصرف المستحقات من قبل الإدارة المالية قبل نهاية ال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رد على أي استفسارات من جانب العاملين وإرسال صورة من تفصيلات الراتب والإضافات والحسومات لكل منهم إذا رغب في ذل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342D-DF7B-4A65-AFD7-9C6F7B3F863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F4224F-34F6-40EA-A782-3BC7110FD9A0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التوظيف       الداخلي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ديد  شروط كل وظيفه من خلال وصف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كيل لجنة للمقاب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جراء المقابلات ورفع التوصي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مدير العام قرار 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كمال الإجراءات الإدارية المتعلقة ب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E761-7F59-4DA6-9354-A3A12D008AC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697F88-4264-4A29-B168-56BB5D2ADE41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وظيف الخارجي (الاستقدام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فرز الطلبات لمعرفة الملائم من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حديد مكان وزمان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للسفر وإجراء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تابعة إنهاء إجراءات استقدام من يقع عليهم الإختيا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ستكمال الإجراءات الإدارية المتعلقة بالتوظي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127D-9DFB-4580-BB9F-CFB31E3EB72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9296F4-8125-4273-899C-BCB9DA380061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جازات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قديم طل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فع الطلب للإدارة العلي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مل إخلاء طرف لإنهاء إجراءات استحقاقاته المال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صدار قرار الإجازة وتبليغ الموظف ومديره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نهاء إجراءات السفر وتسليم واستلام الإقامة وجواز السف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عداد مذكرة المباشرة بعد العودة وتسليم الإقامة واستلام الجوا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5B756-82EA-4D6C-9A8C-E686BCD5446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E6F6A0-4CD6-4E32-9C97-4C241A81E714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انقطاع عن العمل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 – إجراءات الانقطاع لغير ا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نقطاع أكثر من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ساعة ؛ التأكد من وجوده من عدمه بالسكن؛ وفي عدم وجوده تبلغ الإدارة لاتخاذ الإجراءات المناسبة في مثل هذه الحا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تجاوز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يتم اتخاذ إجراءات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- إجراءات الانقطاع ل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 حال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تبلغ الإدارة بذل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تم مخاطبة الموظف وإمهاله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لمباشرة العمل وإلا يتم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255A-7DBC-45FC-9310-2A51AA9BDA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346B14-99E8-40A1-A9E9-98E4F612C44D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- إجراءات الغياب عن العمل :</a:t>
            </a:r>
            <a:endParaRPr b="1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أيام الغياب أول بأو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خصم أجر يوم العم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بلاغ الموظف بالخص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ند تكرار الغياب يتم تطبيق اللائحة المعمول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9921C-6EDB-4F84-B9C6-CD6433111B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A07458-B825-4DB5-9312-307E21788983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ي القيد (الاستقالة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قديم طلب الاستقال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وافقة الرئيس المباشر أو عدم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ما لديه من عهد و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عمل إخلاء ط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طي القيد أو الاستق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بدء بإجراءات الخروج النهائ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ال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نهاء إجراءات السفر بعد تسليمه الجواز مع نهاية آخر يوم عمل 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5DA2D-26D9-46E8-BF2A-CB566609695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E6FA75-4A1F-439A-91DC-EC3CEAD721C4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جديد الإقام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 الإقامة مع (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صورة شخصية قبل فترة كاف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حتفاظ بصورة من الإقامة لدى الموظف وإدار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يام بإجراءات تجديدي الإقا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ها إرسالها للموظف عن طريق إدارته بعد توقيعه بالاستلا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162E-E7BA-4229-9FCB-D6FCFE463B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B6DF7B-BD5F-4ABE-88BD-49D878EB59A9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لب سلفه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بئة النموذج المعد لذلك مع توضيح أسباب طلب السلف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فاق نموذج كفالة موقع من اثنين م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عد التوقيع من المدير المباشر تحول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حول إلى المدير العام في حال الحاجة للاستثن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قسم الرواتب والأجور للتأكد من قدرة الموظف على التسدي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قرار بالموافقة أو التعد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إجراءات الص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4D0AC-D6B2-4235-8C23-DBC96BBD36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64231B-3413-44E1-8B8A-5895AEDDE77A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aining center</cp:lastModifiedBy>
  <dcterms:modified xsi:type="dcterms:W3CDTF">2005-02-19T15:51:43Z</dcterms:modified>
  <cp:revision>6</cp:revision>
  <dc:subject/>
  <dc:title>عرض تقديمي من PowerPoint</dc:title>
</cp:coreProperties>
</file>